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401-D7B9-45EC-8513-87AC725F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B984-59EA-4A6E-A391-FC637AA9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D523-D8DF-40BE-B366-B6EA1117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EEF9-C2A6-425E-94CF-43799135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6F73-2DA8-49F6-B253-920C58B8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00D9-6680-40D7-B974-6FD0E81D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CDE-3B45-4DBE-950E-CB83D582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8031-E2C2-4090-B441-A5F9EF0B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9F7E-1696-498C-8841-3CFB1960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3C90-06C3-4641-A19D-7C89685A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F04F-617F-4C67-9B5B-7F019FF0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3FC-E6D3-44A2-964F-07D8071D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58D3-4573-4D21-A708-85A7257B6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ravel" TargetMode="External"/><Relationship Id="rId2" Type="http://schemas.openxmlformats.org/officeDocument/2006/relationships/hyperlink" Target="http://en.wikipedia.org/wiki/Volunteering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Europe" TargetMode="External"/><Relationship Id="rId2" Type="http://schemas.openxmlformats.org/officeDocument/2006/relationships/hyperlink" Target="http://en.wikipedia.org/wiki/Upper_class" TargetMode="External"/><Relationship Id="rId3" Type="http://schemas.openxmlformats.org/officeDocument/2006/relationships/hyperlink" Target="http://en.wikipedia.org/wiki/Upper_class" TargetMode="External"/><Relationship Id="rId4" Type="http://schemas.openxmlformats.org/officeDocument/2006/relationships/hyperlink" Target="http://en.wikipedia.org/wiki/Europe" TargetMode="External"/><Relationship Id="rId5" Type="http://schemas.openxmlformats.org/officeDocument/2006/relationships/hyperlink" Target="http://en.wikipedia.org/wiki/Custom" TargetMode="External"/><Relationship Id="rId6" Type="http://schemas.openxmlformats.org/officeDocument/2006/relationships/hyperlink" Target="http://en.wikipedia.org/wiki/Oxford_English_Dictionary" TargetMode="External"/><Relationship Id="rId7" Type="http://schemas.openxmlformats.org/officeDocument/2006/relationships/hyperlink" Target="http://en.wikipedia.org/wiki/Oxford_English_Dictionary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Dover" TargetMode="External"/><Relationship Id="rId2" Type="http://schemas.openxmlformats.org/officeDocument/2006/relationships/hyperlink" Target="http://en.wikipedia.org/wiki/England" TargetMode="External"/><Relationship Id="rId3" Type="http://schemas.openxmlformats.org/officeDocument/2006/relationships/hyperlink" Target="http://en.wikipedia.org/wiki/English_Channel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765000"/>
            <a:ext cx="62643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Papyrus"/>
              </a:rPr>
              <a:t>Gap Year &amp; Grand To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Papyrus"/>
              <a:ea typeface="Papyru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26580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Bradley Hand ITC"/>
              </a:rPr>
              <a:t>Grand Tour On Televi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2005, Brian Sewell produced a for a 10 part television se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'Brian Sewell's Grand Tour' that shown the Grand Tour, across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aly by car stopping off in Rome, Florence and other import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ities that finished in Ven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BBC in 1998 produced a series about a travel from Madr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St. Petersbu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429000"/>
            <a:ext cx="8136000" cy="79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628640"/>
            <a:ext cx="8136000" cy="1440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Bradley Hand ITC"/>
              </a:rPr>
              <a:t>The Gap Y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002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gap year is a term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fers to a prolong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eriod between a li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ditionally they are s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 time out to tra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etween school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700280"/>
            <a:ext cx="4105440" cy="1873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4005360"/>
            <a:ext cx="4032360" cy="1800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422928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The Origins Of Gap Y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7848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origin of the 'Gap Year' concept came in the dec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ollowing the Second World W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first 'Gap Years' actua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arted in the UK in the 1960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the 1990s there was the boom of gap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1052640"/>
            <a:ext cx="7056720" cy="8636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5840" y="2133720"/>
            <a:ext cx="4030560" cy="718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3068640"/>
            <a:ext cx="5688000" cy="3603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68800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The Different Type Of Gap Y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2764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students spend the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travell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others spe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working or do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ational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Volunteer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7640" y="1989000"/>
            <a:ext cx="4032000" cy="1727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3645000"/>
            <a:ext cx="414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other growing trend for “gappers” is to register in global education programs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4797360"/>
            <a:ext cx="4032360" cy="1152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9280" y="2133720"/>
            <a:ext cx="40672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Travelling Gap Y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49636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sually the gappers choose economic accommodation, mean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port by road and an individual orga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 could stay in a tent, or in the Host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ne of the most famous type of Gap Year is the “Round The Wor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ick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52640"/>
            <a:ext cx="7704000" cy="720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1989000"/>
            <a:ext cx="5112000" cy="503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2565360"/>
            <a:ext cx="8064360" cy="719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3429000"/>
            <a:ext cx="705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Bradley Hand ITC"/>
              </a:rPr>
              <a:t>The Grand T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10364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Grand Tour was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ditional travel of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Europ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dertaken by mainly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up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clas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Europea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young men.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custo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flourished from ab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66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Grand Tour enable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ublication of books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ntained personal exper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ccording to the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Oxford Engl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Dictionar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, the term was coi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y Richard Lassels in his bo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 Italian Voyag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052640"/>
            <a:ext cx="4032360" cy="2089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3357720"/>
            <a:ext cx="4032360" cy="1150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869000"/>
            <a:ext cx="4105440" cy="13683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4572000" y="1052640"/>
            <a:ext cx="44640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traveller during his journey not only studied and received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beral education but he could also buy some souvenirs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crease his presti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Grand Tour usually cost about 300 pounds per year for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veller but he had to add 50 pounds per serv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rom the second half of 19th century for the education of wom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ich belong to the Upper classes, the Grand Tour consisted in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ashionable trip to It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620640"/>
            <a:ext cx="7993080" cy="1152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916280"/>
            <a:ext cx="7993080" cy="79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2852640"/>
            <a:ext cx="7993080" cy="1008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76360" y="3933720"/>
            <a:ext cx="63356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Bradley Hand ITC"/>
              </a:rPr>
              <a:t>Travel Itiner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39704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most common itinerary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Grand Tour went throu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main European cit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sually the traveller began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Dove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Englan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nd crosse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English Channe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o Calais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r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rom Paris he would typically 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Switzerland, often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v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 the traveller would hav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ifficult passage through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ps into northern Italy, su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 at St. Bernard Pa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4797360"/>
            <a:ext cx="4032360" cy="1440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3573360"/>
            <a:ext cx="4032360" cy="1008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1125360"/>
            <a:ext cx="4032360" cy="23036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788000" y="1268280"/>
            <a:ext cx="414000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y visited the most import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alian cities such as Veni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ome and Na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 they went in Germany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isited Berlin and the univers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Munich before returning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ngl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924280"/>
            <a:ext cx="4032360" cy="15843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1557360"/>
            <a:ext cx="4032360" cy="10796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924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6:07:44Z</dcterms:created>
  <dc:creator>giorgia</dc:creator>
  <dc:description/>
  <dc:language>en-US</dc:language>
  <cp:lastModifiedBy>giorgia</cp:lastModifiedBy>
  <dcterms:modified xsi:type="dcterms:W3CDTF">2009-02-24T17:05:07Z</dcterms:modified>
  <cp:revision>12</cp:revision>
  <dc:subject/>
  <dc:title>Diapositiva 1</dc:title>
</cp:coreProperties>
</file>